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BB11-A409-4805-9022-627170FF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7BE4-A54F-4D9C-82C4-1317965D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5B1D-9C54-40C6-A4BD-E561E29C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CC1A-18EE-43AF-B482-A2B4C5E9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F138-3D8B-401D-8030-A5AAD57C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D4CE-8551-4672-BB47-F2FDB4B8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D7E4-79AD-4953-B9E1-E4C66526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590B-9B7F-4B04-B473-59EFDB08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F0AB-7C3F-4591-955F-A9487AF2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5E6-ED4A-452D-9B9A-77E90DEA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1F69-84B1-4F3A-B34C-DB7671C3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A520-CB63-4872-BCF2-FA092B43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DA66-F336-491D-9B3D-DAD48FFC6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GIZ</a:t>
            </a:r>
            <a:br>
              <a:rPr sz="4400"/>
            </a:br>
            <a:r>
              <a:rPr b="1" lang="sr-Latn-CS" sz="4400" spc="-1" strike="noStrike">
                <a:solidFill>
                  <a:srgbClr val="a50021"/>
                </a:solidFill>
                <a:latin typeface="Arial"/>
              </a:rPr>
              <a:t>Profesionalna orijentacija na prelasku u srednju ško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44197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odeli implementacije programa profesionalne orijen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odeli implementac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Krukulum: 7. i 8. razred – nastava profesionalne orijent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Interdisciplinarno/kroskurikularno – integrisana u nastavne predm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PO u okviru projek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Kurikul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mostalan predmet se više ce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 u toku godine sa jednim časom nedeljno omogućava primenu petofaznog mode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napredjuje se I razvija lična, predmetna I metodička kompeten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ci doživljavaju aktivnu nast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tvoreni vidovi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bezbedjena primena vežb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ljučne kompetencije se prenose na efikasan nač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nažnije otvaranje škole prema spoljnjem svetu – 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ogućnost organizacije realnih susr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ransparentnost o zbivanjima u nastavi za roditelje/staratel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anje posla oko koordinac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oditelji/staratelji prepoznaju dobit za decu kroz pripremu za buduće zanimanje I školo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o praćenj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a50021"/>
                </a:solidFill>
                <a:latin typeface="Arial"/>
              </a:rPr>
              <a:t>Interdisciplinarno/kroskurikularno – integrisana u nastavne predm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 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8.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razredu integriš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sa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30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časova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 u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met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a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interdisciplina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dlik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e prepoznavanje značaja PO za nastavnike, roditelje/staratelje I eksterne školske partn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iše posla oko koordin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orijentisanost prema nastavnom pla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težana realizacija petofaznog modela u pra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kontinuiteta za razvoj kompetencije orijent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voljno vežbi sa primenom različitih met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eže otvaranje škole iz organizacionih razlo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mogućnost za sprovodje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transparentnosti za roditelje/staratel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datni časovi za ostvariva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a50021"/>
                </a:solidFill>
                <a:latin typeface="Arial"/>
              </a:rPr>
              <a:t>PO u okviru projek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nje se opaža značaj PO kao doprinos životnoj orijenta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rebno je još termina od jednog ( školska godina ) za projek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petofazng modela može duže da tr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mpetencija orijentacije može da se razvija I unapredju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otvorenih vidova učenja postoji ali nedostaje kontinui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tvaranje škole prema spolja zavisi od strukture pro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ći poslovi koordin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datni časovi za realne susrete u 7. I 8. razr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no ostvarljivo u praksi - potvrdjuje iskustvo iz pilot projek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mpetenci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k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920" y="1143000"/>
          <a:ext cx="861048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143000"/>
                    <a:ext cx="8610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ala </a:t>
            </a: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pomoć prijatelja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43828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 pred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odeljenjske zajednice za učenike/ce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kroz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slobodnih vannastavnih aktivnosti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Vaš predlog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j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1-10-04T13:20:40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